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A51-A427-41EC-8C8D-F03CBE8A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2AE-D28F-4BAE-B139-C51D1342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673-D34C-4134-84FC-AFF0058B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0E8-3189-4949-85B3-EBD1072F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EFEA-70A3-4691-8823-8760186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609-D354-4943-9F52-E8AA9988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2A06-5909-4350-843A-CC6E906E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FBB7-A256-4D03-B29C-EFB023F5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8DF9-5B69-42BF-90BB-3D7EBFCA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95D0-A634-46E3-8E7D-5BD2B03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08E-334D-4976-9130-F269BF9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66E-933E-41BC-B749-E7B6DC7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1F0-3B34-4538-B89D-EAD16CF2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9503-7E95-47C9-B10B-3E7A196C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8F09-7720-4A17-829E-0DF9741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F12B-3D8A-44F0-BF73-C24A8281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5D3A-E729-498D-B78A-244C9B27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65C-CCA4-4AFA-9D4B-267FCE7C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F1B-A001-4D2A-8013-0CBF124B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0C3-CE4C-4102-BF93-2294A7AE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AC1-7A7C-45F8-AD39-573BAFC7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A9E-D74E-4B3C-BA24-D127C4B2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066-5197-4F71-B7B0-E7050D7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A6E-71E2-4CAC-B54B-661F741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D418-19BE-4343-9085-25D075C97ECA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376A-794A-475A-BDF4-1BFDACD09443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Networked Information System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Types of Information System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fferent types of IS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-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Autom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Informatio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Sup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nsaction-Processing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PS, (or Operational systems) designed to process data generated by an organisation’s day-to-day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ata acquired by TPs and proc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duce information for workers, managers, eg. stock lists, pay ad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s, sales order processing, invoicing, payroll, 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nsaction-Processing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 of TPS proces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TP, transactions processed as they are entered into a T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tch processing, transactions grouped together &amp; processed as a batch, eg. banks &amp; che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ffice Automation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terpersonal communication such as e-mail, voice mail, WP,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s &amp; internet facilitate thes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ment Information Systems (MIS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the work of middle managers &amp; senior managers by producing structured, summarised &amp; exception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. summary stock reports, exception sales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 manipulates data from the T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cision Support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s middle &amp; senior managers to make decisions by summarising or comparing data or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obtained from internal or external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PS &amp; MIS, eg. invoices, stock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info., economic forecast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/f with TPS &amp; MIS, analyse data &amp;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financi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pert Syste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bines the knowledge of human experts into a computer-based system that simulates aspects of human reasoning &amp; decision-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ftware program that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tored base of knowledge in a specialise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et of rules applied to a particular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ield of artificial intelligence, computer simulating human intelligence &amp; dec.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ypesofisys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10:43:23Z</dcterms:created>
  <dc:creator>cc</dc:creator>
  <dc:description/>
  <dc:language>en-US</dc:language>
  <cp:lastModifiedBy>Kelvin Baird</cp:lastModifiedBy>
  <cp:lastPrinted>2000-05-03T21:02:36Z</cp:lastPrinted>
  <dcterms:modified xsi:type="dcterms:W3CDTF">2007-01-04T03:55:19Z</dcterms:modified>
  <cp:revision>8</cp:revision>
  <dc:subject/>
  <dc:title>Organisations &amp; Information Systems</dc:title>
</cp:coreProperties>
</file>